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2F80-E63D-4C5E-AA12-44F870D9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158D-7929-4565-A2CE-0FE07AA4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DA93-28E2-4C5B-AAF5-CEFC18444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22DD-2666-43F4-BF63-4DFE84E32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DA07-F97F-4705-B56C-F25A283A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C5EF-691B-401B-99D7-E2DDBCC7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B203-A743-44F5-BB0F-3309AD0A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5509-5D31-486C-B04E-91BE1ECA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923A-3AE2-4250-8E95-50A31C89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6656-93E1-4A7B-A412-D1E76C5A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E84C-8DB3-4220-B0BA-4672CE1E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4EED-C67A-4743-B79E-8B988B7D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2B8D-E67B-4225-B68D-18020F09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773B-8602-4B21-A7DB-71A68321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8C6C-D9F4-45F8-AC40-BDDF2D38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B173-80F6-40B9-8296-A72C642E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320B-55DB-4238-9B42-0285113F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39DC-5E8A-4128-AA13-E33ED7E1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90EC-482A-4D1D-8145-BF795FEB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6E7D-078E-4471-A9DB-49EB8746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A831-001E-4770-AD83-32CFEBF4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189A-64FF-428F-8BAD-14014BA1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AAFF-DFE2-446B-9160-681253C5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3CCC-F4FE-43AF-A239-4C6B47F0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C6DB-E9A4-4FFB-BA7E-0BED272F1C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CF55-3B78-42CB-A75D-583F40E3BC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85920" y="2773440"/>
            <a:ext cx="71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MIERZENIE KĄTÓW. MIARA KĄ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ĄTOMIERZ – PRZYRZĄD DO MIERZENIA 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1052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92360" y="5184720"/>
            <a:ext cx="60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dstawową jednostką miary jes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stopie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 symbolicznie zapisujemy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322360" y="1938240"/>
            <a:ext cx="4770720" cy="2979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546280" y="4869000"/>
            <a:ext cx="418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Źródło: http://amar.waw.p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MIARY KĄT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71640" y="1390680"/>
            <a:ext cx="3286080" cy="2038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246480"/>
            <a:ext cx="3014640" cy="1749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927000" y="5037120"/>
            <a:ext cx="2835360" cy="1820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285920" y="1042920"/>
            <a:ext cx="28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ara kąta prost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46640" y="2843280"/>
            <a:ext cx="28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ara kąta ostr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4689360"/>
            <a:ext cx="28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ara kąta rozwart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62360" y="5543640"/>
            <a:ext cx="538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ątomierzem zmierzono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kąt </a:t>
            </a:r>
            <a:r>
              <a:rPr b="1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                                                               Przy mierzeniu kąta skorzystano z podziałki wewnętrznej.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ara kąta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jest równa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30</a:t>
            </a:r>
            <a:r>
              <a:rPr b="1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co symbolicznie zapisujemy: </a:t>
            </a:r>
            <a:r>
              <a:rPr b="1" lang="en-US" sz="1200" spc="-1" strike="noStrike">
                <a:solidFill>
                  <a:srgbClr val="6600ff"/>
                </a:solidFill>
                <a:latin typeface="Arial"/>
              </a:rPr>
              <a:t>|</a:t>
            </a:r>
            <a:r>
              <a:rPr b="1" lang="en-US" sz="1200" spc="-1" strike="noStrike">
                <a:solidFill>
                  <a:srgbClr val="6600ff"/>
                </a:solidFill>
                <a:latin typeface="Symbol"/>
                <a:ea typeface="Symbol"/>
              </a:rPr>
              <a:t></a:t>
            </a:r>
            <a:r>
              <a:rPr b="1" lang="en-US" sz="1200" spc="-1" strike="noStrike">
                <a:solidFill>
                  <a:srgbClr val="6600ff"/>
                </a:solidFill>
                <a:latin typeface="Arial"/>
              </a:rPr>
              <a:t>| = 130</a:t>
            </a:r>
            <a:r>
              <a:rPr b="1" lang="en-US" sz="1200" spc="-1" strike="noStrike">
                <a:solidFill>
                  <a:srgbClr val="6600ff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808280"/>
            <a:ext cx="40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ątomierzem zmierzono kąt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prost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ara kąta prostego jest równa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90</a:t>
            </a:r>
            <a:r>
              <a:rPr b="1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6640" y="3743280"/>
            <a:ext cx="4996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ątomierzem zmierzono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kąt </a:t>
            </a:r>
            <a:r>
              <a:rPr b="1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zy mierzeniu kąta skorzystano z podziałki zewnętrznej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ara kąta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jest równa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co symbolicznie zapisujemy: </a:t>
            </a:r>
            <a:r>
              <a:rPr b="1" lang="en-US" sz="1200" spc="-1" strike="noStrike">
                <a:solidFill>
                  <a:srgbClr val="6600ff"/>
                </a:solidFill>
                <a:latin typeface="Arial"/>
              </a:rPr>
              <a:t>|</a:t>
            </a:r>
            <a:r>
              <a:rPr b="1" lang="en-US" sz="1200" spc="-1" strike="noStrike">
                <a:solidFill>
                  <a:srgbClr val="6600ff"/>
                </a:solidFill>
                <a:latin typeface="Symbol"/>
                <a:ea typeface="Symbol"/>
              </a:rPr>
              <a:t></a:t>
            </a:r>
            <a:r>
              <a:rPr b="1" lang="en-US" sz="1200" spc="-1" strike="noStrike">
                <a:solidFill>
                  <a:srgbClr val="6600ff"/>
                </a:solidFill>
                <a:latin typeface="Arial"/>
              </a:rPr>
              <a:t>| = 30</a:t>
            </a:r>
            <a:r>
              <a:rPr b="1" lang="en-US" sz="1200" spc="-1" strike="noStrike">
                <a:solidFill>
                  <a:srgbClr val="6600ff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85920" y="1989000"/>
            <a:ext cx="70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ara kąt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streg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jest większa o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mniejsza o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85920" y="3032280"/>
            <a:ext cx="58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ara kąt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steg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jest rów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85920" y="396864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ara kąt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zwarteg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jest większa o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mniejsza o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80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44:06Z</dcterms:modified>
  <cp:revision>10</cp:revision>
  <dc:subject/>
  <dc:title>Slajd 1</dc:title>
</cp:coreProperties>
</file>